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D49-72E6-4BC6-B5B7-7528A98A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DDF-4856-4D16-B0DC-F17C5F8C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F24-B7DB-4A26-8FA6-0B8853C2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98A-D3A0-4464-AACF-81F214C3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222-434B-4715-AA0A-3FF0480F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810-DE07-4FF5-BE81-8E85DE43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20C-F754-4F16-A8A9-088C4CFB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89C-4885-4A4D-99D9-DA0DE42D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6D6-9636-493C-BB50-4EA3CCEC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C1E-87BC-4288-80EB-EC740CB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086-FABC-432C-85BD-0661FF1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3C4-2A58-4D8A-8471-53B7BBA0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8392-9C3D-4D23-B842-A6A354A02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hony’s PP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Math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use this slide to start my class with a warm up activity while I take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even project homework solutions to have the students self correct homework to sav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also have my students begin working on a vocabulary exercise that relates to the math lesson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place an example with several steps in a math problem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748040" y="2200320"/>
            <a:ext cx="3838680" cy="3324240"/>
            <a:chOff x="4748040" y="2200320"/>
            <a:chExt cx="3838680" cy="3324240"/>
          </a:xfrm>
        </p:grpSpPr>
        <p:sp>
          <p:nvSpPr>
            <p:cNvPr id="48" name="_s4107"/>
            <p:cNvSpPr/>
            <p:nvPr/>
          </p:nvSpPr>
          <p:spPr>
            <a:xfrm flipV="1">
              <a:off x="6027840" y="2200320"/>
              <a:ext cx="1279440" cy="1108080"/>
            </a:xfrm>
            <a:custGeom>
              <a:avLst/>
              <a:gdLst>
                <a:gd name="textAreaLeft" fmla="*/ 459000 w 1279440"/>
                <a:gd name="textAreaRight" fmla="*/ 820440 w 127944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8"/>
            <p:cNvSpPr/>
            <p:nvPr/>
          </p:nvSpPr>
          <p:spPr>
            <a:xfrm flipV="1">
              <a:off x="5388120" y="3308400"/>
              <a:ext cx="2558880" cy="1108080"/>
            </a:xfrm>
            <a:custGeom>
              <a:avLst/>
              <a:gdLst>
                <a:gd name="textAreaLeft" fmla="*/ 562680 w 2558880"/>
                <a:gd name="textAreaRight" fmla="*/ 1996200 w 255888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09"/>
            <p:cNvSpPr/>
            <p:nvPr/>
          </p:nvSpPr>
          <p:spPr>
            <a:xfrm flipV="1">
              <a:off x="4748040" y="4416480"/>
              <a:ext cx="3838680" cy="1108080"/>
            </a:xfrm>
            <a:custGeom>
              <a:avLst/>
              <a:gdLst>
                <a:gd name="textAreaLeft" fmla="*/ 666360 w 3838680"/>
                <a:gd name="textAreaRight" fmla="*/ 3172320 w 3838680"/>
                <a:gd name="textAreaTop" fmla="*/ 192240 h 1108080"/>
                <a:gd name="textAreaBottom" fmla="*/ 9158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08:09:14Z</dcterms:created>
  <dc:creator>NAME</dc:creator>
  <dc:description/>
  <dc:language>en-US</dc:language>
  <cp:lastModifiedBy>NAME</cp:lastModifiedBy>
  <dcterms:modified xsi:type="dcterms:W3CDTF">2011-04-16T08:13:23Z</dcterms:modified>
  <cp:revision>2</cp:revision>
  <dc:subject/>
  <dc:title>Anthony’s PPT Presentation</dc:title>
</cp:coreProperties>
</file>